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  <p:sldId id="298" r:id="rId69"/>
    <p:sldId id="299" r:id="rId70"/>
    <p:sldId id="300" r:id="rId71"/>
    <p:sldId id="301" r:id="rId72"/>
    <p:sldId id="302" r:id="rId73"/>
    <p:sldId id="303" r:id="rId74"/>
    <p:sldId id="304" r:id="rId75"/>
    <p:sldId id="305" r:id="rId76"/>
    <p:sldId id="306" r:id="rId77"/>
    <p:sldId id="307" r:id="rId78"/>
    <p:sldId id="308" r:id="rId79"/>
    <p:sldId id="309" r:id="rId80"/>
    <p:sldId id="310" r:id="rId81"/>
    <p:sldId id="311" r:id="rId8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slide" Target="slides/slide43.xml"/><Relationship Id="rId70" Type="http://schemas.openxmlformats.org/officeDocument/2006/relationships/slide" Target="slides/slide44.xml"/><Relationship Id="rId71" Type="http://schemas.openxmlformats.org/officeDocument/2006/relationships/slide" Target="slides/slide45.xml"/><Relationship Id="rId72" Type="http://schemas.openxmlformats.org/officeDocument/2006/relationships/slide" Target="slides/slide46.xml"/><Relationship Id="rId73" Type="http://schemas.openxmlformats.org/officeDocument/2006/relationships/slide" Target="slides/slide47.xml"/><Relationship Id="rId74" Type="http://schemas.openxmlformats.org/officeDocument/2006/relationships/slide" Target="slides/slide48.xml"/><Relationship Id="rId75" Type="http://schemas.openxmlformats.org/officeDocument/2006/relationships/slide" Target="slides/slide49.xml"/><Relationship Id="rId76" Type="http://schemas.openxmlformats.org/officeDocument/2006/relationships/slide" Target="slides/slide50.xml"/><Relationship Id="rId77" Type="http://schemas.openxmlformats.org/officeDocument/2006/relationships/slide" Target="slides/slide51.xml"/><Relationship Id="rId78" Type="http://schemas.openxmlformats.org/officeDocument/2006/relationships/slide" Target="slides/slide52.xml"/><Relationship Id="rId79" Type="http://schemas.openxmlformats.org/officeDocument/2006/relationships/slide" Target="slides/slide53.xml"/><Relationship Id="rId80" Type="http://schemas.openxmlformats.org/officeDocument/2006/relationships/slide" Target="slides/slide54.xml"/><Relationship Id="rId81" Type="http://schemas.openxmlformats.org/officeDocument/2006/relationships/slide" Target="slides/slide55.xml"/><Relationship Id="rId82" Type="http://schemas.openxmlformats.org/officeDocument/2006/relationships/slide" Target="slides/slide56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 rules - capita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dt" idx="6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ftr" idx="6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PlaceHolder 6"/>
          <p:cNvSpPr>
            <a:spLocks noGrp="1"/>
          </p:cNvSpPr>
          <p:nvPr>
            <p:ph type="sldNum" idx="6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1CB3A-E397-4495-A825-A1EB79DCB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2"/>
          <p:cNvSpPr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noAutofit/>
          </a:bodyPr>
          <a:p>
            <a:pPr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402000"/>
                </a:solidFill>
                <a:latin typeface="Times New Roman"/>
              </a:rPr>
              <a:t>AP rules - capitalization</a:t>
            </a:r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A493F-A55D-46C4-A496-2AF3D6D77583}" type="slidenum">
              <a:rPr b="0" lang="en-US" sz="13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50E-64EA-42A4-91A0-77983617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4F7-8EE8-4D6C-B070-BD9FCDA1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FCB26-3396-43C7-9D47-32B57935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1A486-2C3E-4E03-8248-BB591D4B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1D831-3DDC-4168-A583-58D361BE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CB5F0-7915-49E4-B0AF-EFE35BF5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B568F-FA4E-4606-8420-E2CA4D9E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0E10F-B4E8-4B69-B5D1-455A2248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54B6-DBB6-4CC6-AD0B-F6B416D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43101-20BA-499E-AD75-C39BD032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9AEC3-00CF-41CB-BF7F-D55C0C6B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AF136-A024-4919-A234-D02D64A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DC65-75E3-4923-923E-DC8EA275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5692F-5D11-4602-8F0B-F06832D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C5477-2367-4A6A-A50D-E4A4032D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E0A62-2A6E-49DF-9BC7-B72B6F5B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4029F-DFC0-4421-89FC-F17B8C5B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1426-A691-45FA-912D-CA91CD3C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E9AC2-A7C1-4189-B645-DA305DFA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DB03E-F480-4F53-A91A-88B1EEE5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E5739-2A79-425B-9C38-B5AA24FD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0D81-AD9B-4C3B-BD38-EC761178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7F85B-9A93-4A2F-82BA-9056A0AC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3850-CD05-48B8-9A08-4F53178B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29074-635A-4C4A-AEBC-5581B9CA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BE9F9-9FF3-4479-A02F-7ABAB75F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E97CF-81B1-40F8-BA96-BCF02BD8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74ECF-B001-45E5-8F0B-06367338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167A1-1B26-4F67-9C5C-DB9B5FE7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0FDC4-C0C0-4807-A34F-DFC85B83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113AE-020B-490B-99EB-81EEC100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948B7-2BB4-48F0-B154-85C8F6AC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4668F-ABFB-4B78-8298-44ADDCF0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E3216-D59F-44E9-BB72-40330276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30F31-7E88-4C35-9680-AD47CC70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20442-CDA5-4C7D-BC20-A03FC17B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A51C5-A09E-4A33-9E10-DF558442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6252D-5E6E-4A57-B914-52D79290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A19A0-FFAB-4A68-A476-88B0626C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9741C-EA2C-463E-A852-6BD65B8A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FB44E-137D-4E85-B5D2-960124EC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84046-4BDF-4C1D-AA78-3BB9021A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E7A9CC-F822-4CF6-A9D8-ED207271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2BA94-0850-4937-A449-71C8F55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4DEB8-A73D-46E4-96CB-16021A0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57202-52CE-4232-B8B0-4CADB65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7C76B-5EE4-49F9-9975-B056CF33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B3B05-D90D-486A-A82B-ADF92712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7F79F-D81B-4338-B858-B48CAE4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8FCECC-0807-41E8-AC51-58C5BEB3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4EBB5-E67E-4D13-8037-2C0401A2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16FBF-6766-4E09-80BF-B1C5CB19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69255-E83B-4238-8E23-33361FBE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A70E-5C79-4831-B22B-17AB6EE0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733E5-DA2A-4E29-AF87-A3047A4E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3D40D-8670-4A2E-87F2-9032CDE8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D51FF2-6093-4A8C-9F41-D384E02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6C6A7-71EF-4BA2-92EE-1A3410A3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4C8B4-7BD0-44B6-AF76-79D12814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2B1C6-1162-4327-B2AF-A16B82D1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0FDE5-AC4F-4627-B807-928BF38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3E0B7-9A3F-4008-9C71-3455E5A8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9B25E6-FFE5-4A89-8B80-1D658537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9298-8153-4746-9D38-84B829DF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9DEF1A-34CC-4636-80DD-8C4C846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949D5-5E1C-45AA-A086-FAA71073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4B05E3-67E5-4812-9338-439C86A7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2F399-D832-4226-B31E-ADA2C94C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238FA-A518-496C-91F2-6B7E95C6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3F2D7-5982-4ABA-9CC6-565C24AF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C1102-FA76-4C64-9508-ADD3CED3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8FA99-BA8D-4B0D-AAF9-2221C29C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50BAE-E94F-4D17-9319-27650887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BF7E0-2BFA-41F4-BE88-F4B0AEEA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D45B98-6E57-403A-A2E4-DB5D8A4D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1EC1F9-7BE7-40CC-A479-B7A175EC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621EF-6974-4AB6-B650-8C03BA92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CCBDB-9053-47C5-B90D-153F720EF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1AFF7-E5F5-43BB-81B7-F5EA8D11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3C6E4-A9FB-4DCE-AD56-44424295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8EBC5-6FE0-4F89-8B9F-AE8A52B2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56488-5F0B-44FB-93DB-2B716D0A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957B49-9BD3-450D-AA95-162280E1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7F4CE-5CD6-4CD0-AA72-4DB29E905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B0ADD-8728-403D-964D-05708570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1BDBA-8F1A-43C3-802C-18D06EE76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28FD1C-F4DC-4E6F-838F-6E0DE9F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681C6-918A-4176-A904-926C86FD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2FB19-6745-4ED5-955D-BB9BD81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89B06-B2ED-48C5-A88B-84D58AD5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43253-D950-4D6F-81B8-700352DF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5D54E-93B8-4C4F-AFD7-759CEF3A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52B92-CA99-42F4-AF33-0F100225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7EE29A-0116-410A-9C8F-86FF818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9D39D-4A39-4EF0-A5A3-5B1A84B6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B21CE-FF3D-4124-90E0-DDEEBBEB3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C39A5-665C-469F-8A88-9F278B7C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C69222-EF56-44E8-8634-0BA5F294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2E5B15-FC5C-4D70-A9AF-82987140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E94CA5-6199-4078-9B83-07830637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E0B19B-8F3F-4D37-B05D-D34BA0DB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D7F3F-A2EE-4E0D-A7E7-F58B513A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C4E25-3F88-4F86-AAEB-7940B2E5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02F56-3008-4972-B28D-029F3E7E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4F92-3161-40D5-BDF4-F7860A34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39FA7-E2E5-4920-966C-84920D16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52696D-F7CC-47D0-8BC8-EF7A5E45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3E00A-EAE4-4388-9604-FA67ACA6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B0EA2C-3448-4C86-8F14-1E843A34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6424B-E9C1-4869-A54F-5EBCF47C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BE0DC-615A-4F38-BDB6-822CA29A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9B443-3B56-4B18-921D-F9AA0C0C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3926C6-8A11-4B00-ADEA-2E83FD3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B59B8-DB27-4F08-A4E8-0D69BA5B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AC2B2-AE39-4136-81DC-5431F006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8E7B1-0B14-48F2-9E1C-EE5195C5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471D92-ED8D-4EEA-B40F-92C77BC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E31D7-5EAB-4CE1-8AFE-54AF5171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1E318F-80DF-4637-844D-D47D7ECA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C7E5DE-37F4-4F80-A146-214C83C6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D25FE1-A434-4147-8B25-77B0370A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312DA-89B1-4C31-8727-EFC02BF7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E4B258-05E0-4349-B91E-17BCA3AE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6DEA8-7C51-40F0-BBEA-C5D96D19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C11CF-CFA4-4B7C-9AA6-9E335358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EA01D1-3750-4767-BFEE-B53F402D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40DA9C-BD91-474C-863A-4CCD9AB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2E2D0-A1FE-4113-94C5-5484617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4A66C-CD04-49DF-AA23-2D86BA44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0357CB-5BA0-4073-8F85-DD232EE0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067F00-E7D5-4640-9487-F8E71ADA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6B8474-C358-465E-9D99-00EE0C57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51FB6A-B461-4D32-8092-97BC2DFE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0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BD403-2DA7-4270-A4A3-EE9E13E0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DEA1EB-C6A7-4890-B251-C4363BCC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637E93-0FE3-4D59-90D6-206FBE0B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23803-4E91-4456-840E-974709D6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4F00B9-7013-42BC-A1AA-69676EE1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052150-4C12-4A2B-848B-8AF93FF4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D93D4D-858B-4E23-A338-DB8AF263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C335E-99EE-425F-9FEC-270DE8AD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0A5005-B856-4CFE-A010-09130A4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C6F820-9013-491D-8DB0-9C2B1EC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3BF06-D8D4-40AF-BFFE-F297CCFA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44FFFC-A640-44B9-B22C-E5A065AE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7B5222-3175-47BA-B142-975449195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FED1EF-8D05-4933-A57F-545C492A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AA20A-C7B5-42AA-B253-060C7AD1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8947D2-76E1-4429-BC07-A4D15E3B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05733F-7EB1-451E-9FFE-001CD454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7546A-61AE-484F-955B-C9D66C6D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1989DB-22F4-4C85-AF0C-C3A430E1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904242-E656-4809-A37C-3C4EE44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2F9A2-A0F8-4EE0-93F4-96B96A59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58358-70F7-434B-85B5-06C6A7E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EC0023-A2EF-43C7-87B5-EA6B19D9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956B7C-B3D1-4629-AB6B-127D207E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D5EFF-B3E3-45A8-A0CE-838A18DA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E421DE-9C63-4B59-AAC5-BE28A077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7B86B4-A8A9-4272-9EEB-E5A64672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950A3-4213-4FBD-9ED1-92B4AAD1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91C408-D278-4D2E-AB40-6A03BCA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79B79F-FF67-40D6-96C1-6A90960F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5A6F1-BCA7-407F-BC1D-EF545BCD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A96CBB-6930-484D-BEDC-F574B28C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2D91D1-382F-4FFE-87AF-6431CC04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D5835-48B4-4FF2-850B-5A61876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B552AF-B1B4-4B5F-822B-FCF74BD3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6ADEA-860F-42E4-B63B-FA21AE21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60541C-2587-48DA-9F59-FD7BFA71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F08132-C214-4F5F-A774-25D8879E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A37D04-D998-45FB-82EA-78DBE3A5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E8A47-735D-4224-A032-ECA06F6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389A3C-D352-47C9-AC83-0E611B3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C5601-3448-4467-988D-0558F03D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CBBEEE-0472-45A0-BF84-A40ED898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84A805-2D6F-4F41-A345-7957C6E2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A59258-BAC3-41A7-A718-AF4B18FA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940E5-5107-411E-95CE-7D17347E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E98B5F-18B2-4AE2-A9AE-5605EB7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D003F1-7304-4291-B76A-CB99BF9A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843376-B9C9-4D53-AA15-D9BAD53B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E67CCC-660F-410E-950E-5C3FC55A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3E3365-3F8D-48A6-8BE5-FABC5E40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B6B72C-9BBF-4621-9AA4-2DA06068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A3748-EE4F-426D-9C2D-2F6FCF06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379CDC-2CD8-4175-A40A-5BEB07F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BCB98A-79BB-40E3-98F7-3018DF3D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F2146A-1557-4293-A1FB-6EC2AF40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AADE6D-CF28-42BD-9634-C539F6C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943C35-1B94-49C0-AD96-1915FF6A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A9D19F-16AB-4955-99F2-BA37C56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34A18F-5042-474C-BFD3-D3DDCC12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DB072E-FF77-49B9-9823-73507A49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EB41-673C-4C47-B1AC-A37C01B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D614-CF11-4BAA-A81F-20719361D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3AE3-A505-4DAC-8AF4-0718C8FF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D488-83F3-482C-A331-CF95FFC4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A81-DD8F-4121-B982-800255B9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2738-58F8-4CA3-8457-12D2862E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3653-076C-440F-89CF-99AE727C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1C0B-BB65-45A9-BBCB-FA2F3C01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DCAE-64FD-49BD-880F-9EAE5F55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2012-42A3-4DEF-AE6D-BA60C1C1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8F62-137B-4A93-8700-00D3844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FA54-1A9F-499D-A399-2459A530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8543-DC83-410B-A279-E5474266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13D8-76E9-4F81-BE76-38F4EB94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71900-92E7-434B-809F-12F7FB48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D71-C68B-46D1-9005-CC895793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DF6E8-4E41-49C1-8029-7399BBF3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60957-3150-4659-A2F5-19551DF4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7C07-5472-4449-91BA-488743BF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9692-81E9-40E0-8F9F-4AE4227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C9982-F394-4780-AFD6-BCC1FCD0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68C9-8F67-4117-A2CB-3EE42CE4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0681-D887-4B6C-9C3A-C47DDDDA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5B9A-DD58-474C-A4FF-FF1D803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AC447-0A4B-4CC3-8CE6-AEE078E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8B0E4-52DB-4121-AF93-99B7F877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B02F-4F67-4850-BCE5-1B194906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D63B2-F830-4845-B44E-A18AA389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6BE7D-D6E3-46CE-A015-841809EA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D09E7-02EF-4CB3-95CE-A38A046B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14E51-5B89-4D77-A0F0-F49F411E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0F414-CE4F-4708-B096-16FDE007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4E8A2-F416-4F23-8893-F65B1DD1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E66B9-2F33-4713-8EA9-CCB8CD57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85194-A7DC-452E-9C48-2C300F19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B83F-B1F8-44D8-8006-4C7EC79B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D5BCA-4C84-4C84-BE7D-3844A88F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5AC-BA1B-498E-A990-4646AE26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76D7-08FE-4B11-8113-E4990E7B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A8A26-02BC-443D-A75B-E285538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BD36B-47D3-46C1-85B0-1013DF60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866E-80DC-4FD6-BD84-F52CCB8B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30E18-1321-419D-BD86-6CEAA5B9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52047-2780-4F39-8977-2D69D75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3C01-9B2B-40D2-BC2B-5BAC6EFD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EA2E0-DB13-48AD-AF63-CEED51E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2063-F74E-4AAB-8A17-F2AB681C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9E5C3-B5BC-4B41-93CF-27ACADBE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5F2-046B-4566-9588-64879019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6B710-DDCA-4604-B664-A7E63CF0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65CC-4140-41E2-8476-2B59F55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D4AE3-0AB1-4419-A5F4-F9619FE4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2D4F5-1E58-48EA-B723-17B14C3B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CC80-686E-4CEE-8F65-888DF738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18D5A-76A1-434D-8FC4-530B3A98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7A423-AFCE-476B-B802-004FBC23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9217B-100A-4ACB-89ED-B2D91272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BA324-AF32-42AA-B123-953292A7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0F91-50FD-4AC7-8C21-DBA7F5AE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214-5893-46CD-8453-F3F6574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2D226-8726-4453-888D-DC181252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0482-4655-4EBE-8BE7-20EC0716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C109-81C9-470F-A00D-40B564BA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09713-EF6B-4BD2-B22F-D322B030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D44ED-9EC6-4A04-A986-18099CAB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ADFC5-F1E5-41BB-994C-0A546AC4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93A97-7C37-4EC2-AD54-CC707E03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D6392-7319-4324-BDB1-C3900F03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CAE4-9F90-425F-BA7E-A23D607C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2AA94-033F-4E8B-BE4E-F7A5257A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3669-DA77-4298-A7D1-9F81EB49A23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6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6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dt" idx="22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23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24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CB10-2353-48CC-938E-3CA8C322F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1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17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1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dt" idx="2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ftr" idx="2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Num" idx="2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6E97-DEBF-4FD0-BD52-A7D782AD4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567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568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57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28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ftr" idx="29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30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7CD2-3236-4D21-8848-BC456B3938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618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19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2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dt" idx="3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ftr" idx="3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3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0168-F21A-4D10-8E34-F0D12877B2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669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670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67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dt" idx="3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3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3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ED16-1A41-4C5E-96CB-84FCEF66A9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7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7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7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7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55" name="PlaceHolder 1"/>
          <p:cNvSpPr>
            <a:spLocks noGrp="1"/>
          </p:cNvSpPr>
          <p:nvPr>
            <p:ph type="dt" idx="3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ftr" idx="3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sldNum" idx="3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4EF0-8DED-44ED-9595-5B66CBD7E1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7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7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7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7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dt" idx="4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4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4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21FC-D6DB-4DBE-8A8B-A787A2FF3D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87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87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8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8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8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8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05" name="PlaceHolder 1"/>
          <p:cNvSpPr>
            <a:spLocks noGrp="1"/>
          </p:cNvSpPr>
          <p:nvPr>
            <p:ph type="dt" idx="4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ftr" idx="4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sldNum" idx="4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A0E7-DF44-4DDE-B0D8-AC3CABDDF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4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4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9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dt" idx="46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ftr" idx="47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sldNum" idx="48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B8A1-DB60-4C43-9F73-1EAC228621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0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0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dt" idx="49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ftr" idx="50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sldNum" idx="51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9C2-5495-400F-93DD-1D3B27567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0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0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0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0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 type="dt" idx="52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ftr" idx="53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 type="sldNum" idx="54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365A-2092-4ADB-A8C4-F23EC902AD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17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17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17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7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7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7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8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8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8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8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9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9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0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dt" idx="55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ftr" idx="56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sldNum" idx="57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E14-6EDB-4046-97A4-29B2D17D2F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24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24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0" name="PlaceHolder 1"/>
          <p:cNvSpPr>
            <a:spLocks noGrp="1"/>
          </p:cNvSpPr>
          <p:nvPr>
            <p:ph type="dt" idx="58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ftr" idx="59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 type="sldNum" idx="60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84B7-BDE3-48F0-AD6E-46B65D8353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2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32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dt" idx="6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ftr" idx="6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6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4AF8-4B6A-4BCC-8A69-36C527CF3A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395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396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39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9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0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0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0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1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1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1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1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2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2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430" name="PlaceHolder 1"/>
          <p:cNvSpPr>
            <a:spLocks noGrp="1"/>
          </p:cNvSpPr>
          <p:nvPr>
            <p:ph type="dt" idx="6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ftr" idx="6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 type="sldNum" idx="6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39C-ACF0-40FD-8C63-C18C2D348977}" type="slidenum"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4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e9964"/>
          </a:solidFill>
          <a:ln cap="sq" w="1260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02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cap="sq" w="255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2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6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16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EF6A-3136-49E0-8531-114C66FCE2A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1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11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1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4E88-7892-47F8-ABC8-DE52F51776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26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6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6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dt" idx="10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11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2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D8D-5032-4308-A73B-3AD310AD3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12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13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1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dt" idx="13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ftr" idx="14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15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23E4-E935-45ED-B435-6BBDC56EFD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363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364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36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dt" idx="16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ftr" idx="17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18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2BC2-05F8-4EA9-A2B3-1F1A9DAE9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14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15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1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dt" idx="19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0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21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5E01-1D45-4BED-A1DD-B3A64D288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spto.gov/main/trademarks.ht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9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C105-27D0-40E7-A8A6-B03FD99825A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619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6633"/>
                </a:solidFill>
                <a:latin typeface="Tahoma"/>
              </a:rPr>
              <a:t>Capitalization rules</a:t>
            </a:r>
            <a:endParaRPr b="0" lang="en-US" sz="60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1647360" y="3336840"/>
            <a:ext cx="6505560" cy="24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ahoma"/>
              </a:rPr>
              <a:t>Lessons for copyedito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08366"/>
                </a:solidFill>
                <a:latin typeface="Wingdings"/>
                <a:ea typeface="Wingdings"/>
              </a:rPr>
              <a:t></a:t>
            </a:r>
            <a:endParaRPr b="0" lang="en-US" sz="48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ahoma"/>
              </a:rPr>
              <a:t>By Jeff South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ahoma"/>
              </a:rPr>
              <a:t>VCU School of Mass Communication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37B0-7278-4A3D-8CE3-21B62466B6C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Compass point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if it’s a specific regio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is from the Wes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y live in Southside Virginia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if it’s a directio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drove south on I-95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ive miles east of the city, the officers found the abandoned ca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4EE8-C0D5-4AC1-A8BA-8FBCE1081D1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inton was popular in the east but not in the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Clinton was popular in the East but not in the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wind shifted suddenly to the nor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ter leaving Nashville, they headed We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fter leaving Nashville, they headed we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9BDB-0564-408B-A5E8-107347B8046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south will rise again, he sai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South will rise again, he sai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tracks run from West to E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tracks run from west to e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t rarely snows that far sou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moved here from the West Coas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C720-7016-49DD-B7D3-C0311F1EC1A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Awards, honors and priz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specific award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bel Priz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m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sca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edal of Hono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ulitzer Priz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isman Trophy 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62A-C074-4154-BE1C-CAB9655640E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on an academy award in 1998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She won an Academy Award in 1998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spaper received a Pulitzer for international repor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has earned numerous awards for teach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obel peace prize is awarded each spr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obel Peace Prize is awarded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9DB1-0DD0-44FD-8633-04C63C61EA1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all the words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f they’re part of the formal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rmitage High Schoo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ames Rive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sterfield Coun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in Street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40C1-47FA-49FD-B188-4113A70C769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spcAft>
                <a:spcPts val="1400"/>
              </a:spcAft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 careful with plural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rmitage and Armstrong high school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James and York riv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sterfield and Powhatan countie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Main and Harrison stree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525" name="Text Box 4"/>
          <p:cNvSpPr/>
          <p:nvPr/>
        </p:nvSpPr>
        <p:spPr>
          <a:xfrm>
            <a:off x="914400" y="5410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ahoma"/>
              </a:rPr>
              <a:t>Don’t capitalized the ‘pluralized’ word, such as schools or street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6" name="Oval 5"/>
          <p:cNvSpPr/>
          <p:nvPr/>
        </p:nvSpPr>
        <p:spPr>
          <a:xfrm>
            <a:off x="838080" y="5105520"/>
            <a:ext cx="8001000" cy="990360"/>
          </a:xfrm>
          <a:prstGeom prst="ellipse">
            <a:avLst/>
          </a:prstGeom>
          <a:noFill/>
          <a:ln cap="sq" w="76320">
            <a:solidFill>
              <a:srgbClr val="ce99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A4E9-E9A2-425B-8DA9-0A16757B422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Multiword proper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rant and Lee fought in the Civil Wa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is taking History 102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pain is part of the European Unio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lowercas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re’s a civil war in Sri Lank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studying American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Morocco is seeking a union with Alger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7A46-993C-4FB3-AC2D-889AC480B2B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fell from the top of the Empire State build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He fell from the top of the Empire State Build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ccident occurred at Main and Laurel Stree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accident occurred at Main and Laurel stree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0801-A827-4501-ADAF-3B3C2D5AC7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had no transcript from Middle School when she transferred to Godwin High scho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She had no transcript from middle school when she transferred to Godwin High Scho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flew missions in the Korean and Vietnam war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383-8BA0-48C3-A7DE-DAB8D7D5A9D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6633"/>
                </a:solidFill>
                <a:latin typeface="Tahoma"/>
              </a:rPr>
              <a:t>In general</a:t>
            </a:r>
            <a:endParaRPr b="0" lang="en-US" sz="5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wn style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t’s faster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lame cheap publishers!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hen in doubt, check the AP Stylebook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AC0B-D0F6-4F52-9B84-B85D6DBC409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 took four semesters of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I took four semesters of histor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 flunked Biology 101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ofessor has taught at the Universities of Tennessee and West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ofessor has taught at the universities of Tennessee and West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0BD-C8C0-4776-B73C-FA4237C3D0A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specific governmental bodi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ngres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nat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ous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irginia General Assembl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eneral Assembl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Legislatur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F4E-7B25-4DCA-91D3-160ADA391CA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nonspecific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d plural reference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Knesset, Israel’s parliament,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Virginia and Maryland legislatur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E55B-E6EA-4F44-8AC5-DA1FAE042AB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y October, Congress is expected to pass the long-delayed bil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 Legislature has passed the amendm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No legislature has passed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 cabinet met with the president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ew Cabinet met …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AD10-636C-4CBB-9AE2-CA0D97B7111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sse Helms is retiring from the Senat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orth and South Carolina Legislatures will consider regulating pig farm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North and South Carolina legislatures will consider ..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a member of the Diet, Japan’s parliam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2460-06E3-48D7-A97E-533413307A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‘Capitol’ because it refers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o a specific building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visited the Capitol in Washington, D.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‘capital’ - referring to the city where government is headquarter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ichmond is the capital of Virgin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F27E-914D-4F9D-AB60-F4DFBE8BE9B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Government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City Hall and City Council because they’re specific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‘council’ standing alon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uncil will vote next week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C9D3-C6A1-4A6D-86E1-7C6D0B9C378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capitol dominates the skyline of the nation’s Capit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Capitol dominates the skyline of the nation’s capit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hat is the capital of West Virginia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otesters marched east to the capit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otesters marched east to the Capito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89FA-25A7-4EFA-BF78-23C6DB79B1A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names of religions, religious groups, their deities and their sacred book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God, Allah, Buddha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hristians, Jews, Muslim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Bible, the Torah, the Kora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6DE1-578A-4371-A7BE-5182DB0E238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eligion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remember: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bible’ can be lowercase, too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AP Stylebook is the reporter’s bibl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ways lowercase ‘biblical.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speech included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everal biblical referenc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F9C9-67F2-4EF4-A522-2BF7142FD83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roper vs. common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roper nouns =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pecific people, places, thing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mmon nouns =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eneral people, places, thing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233-3333-4269-851F-82B7A0BC159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rry Garcia was almost a god to his devoted f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rusalem is sacred to Jews, Muslims and Christi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talmud is a book of religious and civil law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Talmud is a book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77B7-E8B6-4FC8-84C9-D1660D9BCE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ace &amp; ethnicity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the formal names of races and ethnic group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frican American, Caucasian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ian, Hispanic, India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skin colors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lack community, white residents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whites, the black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4654-95A9-42E1-9036-B3E4D84E223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Race &amp; ethnicity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ll people what they want to be called.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lack or African American?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ative American or Indian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ispanic, Latino or Chicano?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first, consider: Is race relevant to the story? If not, don’t use i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9362-5465-4A23-A076-01D9FC845F5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the South, Whites used the poll tax to keep Blacks from vo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In the South, whites used the poll tax to keep blacks from vo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Virginius Dabney, a white editor at the </a:t>
            </a:r>
            <a:r>
              <a:rPr b="0" i="1" lang="en-US" sz="2800" spc="-1" strike="noStrike">
                <a:solidFill>
                  <a:srgbClr val="402000"/>
                </a:solidFill>
                <a:latin typeface="Tahoma"/>
              </a:rPr>
              <a:t>Richmond Times-Dispatch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, won a Pulitzer for opposing the poll tax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C21-5F39-4DC9-92CB-37753C4AB81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But the </a:t>
            </a:r>
            <a:r>
              <a:rPr b="0" i="1" lang="en-US" sz="2800" spc="-1" strike="noStrike">
                <a:solidFill>
                  <a:srgbClr val="402000"/>
                </a:solidFill>
                <a:latin typeface="Tahoma"/>
              </a:rPr>
              <a:t>Times-Dispatch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led the campaign against allowing blacks and whites to attend schools togethe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s a result, many people in the Black Community continue to distrust the white-owned daily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s a result, many people in the black community continue to distrust the white-owned daily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22E3-AB5E-4DDC-8AA4-AF3F0B9920F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apitalize formal titles directly before a name (‘fused’ to a name),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not separated by a comma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speaker is Mayor Tim Kaine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oday, President Bush signed the bill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owercase descriptive titles: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concert featured singer Sheryl Crow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ahoma"/>
              </a:rPr>
              <a:t>The city bought the land from farmer Jerry Crawford.</a:t>
            </a:r>
            <a:endParaRPr b="0" lang="en-US" sz="24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997F-F42E-411D-BFE8-29AD8CE5D39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rmal titles denote authority or professional or academic achievement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ope Paul, President Bush, King Henr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escriptive titles includ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ophomore Bill Sims, reporter Jean Williams, first baseman Mark Gra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B42-E10A-4764-8B91-107FBAD7829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f a comma separates the title and name, the title is no longer a proper nou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ew dean, Steve Gottfredson, will meet with the student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president, George W. Bush, held a state dinner for Mexican President Vicente Fox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411B-BC68-4914-865A-05A384C8094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ikewise, lowercase titles that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me after a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Eugene Trani, president of Virginia Commonwealth University, ..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ff South, a VCU professor, taught Newswriting last yea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uan Carlos, the king of Spain, is visiting South Americ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7F00-A5DE-4D2E-8BE9-D0929FBE7A4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ut long titles (more than three words) after a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racy Smith, chairwoman of the Henrico County Planning and Zoning Commission, voted against the proposa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Ron Nixon, a deputy secretary of state for Middle Eastern affairs, attended the meet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Slide Number Placeholder 6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E581-917A-4AE2-9DAA-D5C4BB35CD3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roper vs. common nou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ahoma"/>
              </a:rPr>
              <a:t>Prop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Tim Kaine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Kenya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Pepsi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Richmond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University </a:t>
            </a: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of Virginia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2000"/>
                </a:solidFill>
                <a:uFillTx/>
                <a:latin typeface="Tahoma"/>
              </a:rPr>
              <a:t>Common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a man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country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soft drink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a city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  <a:p>
            <a:pPr lvl="1" marL="690840" indent="-265680">
              <a:spcBef>
                <a:spcPts val="901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university,</a:t>
            </a:r>
            <a:br>
              <a:rPr sz="3600"/>
            </a:br>
            <a:r>
              <a:rPr b="0" lang="en-US" sz="3600" spc="-1" strike="noStrike">
                <a:solidFill>
                  <a:srgbClr val="402000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9087-4530-4D5D-B3C8-FCCD1A70A07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lways lowercase titles standing alone, without a nam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met the president in the White Hous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ope gave his blessing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3E92-7BDA-4D82-959A-674680D3C5B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ormal titles are used on first reference only, with the person’s full nam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irst reference: Dr. Thomas Alexand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reference: Alexander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First reference: Vice President Richard Chene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econd reference: Chene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2B6D-BE23-4DAB-9895-FFFC5E1837C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Plural formal titles are capitalize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In Washington, Presidents George W. Bush of the United States and Vicente Fox of Mexico are discussing immigration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committee will be headed by Vice Provosts Cynthia McWilliams and Oscar Garci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D853-3FF1-4132-94A6-3EEEA56ABEF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n’t capitalize words that modify or describe a formal titl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t VCU, former President Jimmy Carter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ill speak at a symposium on poverty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roup invited retired Gen. Art Hall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029-D204-46CC-B4AC-4FE8C6710FA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itl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P style does not use courtesy titles (Miss, Ms., Mrs., Mr.) unless they are needed to prevent confusio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some publications do use courtesy titles. (See </a:t>
            </a:r>
            <a:r>
              <a:rPr b="0" i="1" lang="en-US" sz="3200" spc="-1" strike="noStrike">
                <a:solidFill>
                  <a:srgbClr val="402000"/>
                </a:solidFill>
                <a:latin typeface="Tahoma"/>
              </a:rPr>
              <a:t>The NY Times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, or </a:t>
            </a:r>
            <a:r>
              <a:rPr b="0" i="1" lang="en-US" sz="3200" spc="-1" strike="noStrike">
                <a:solidFill>
                  <a:srgbClr val="402000"/>
                </a:solidFill>
                <a:latin typeface="Tahoma"/>
              </a:rPr>
              <a:t>Richmond Times-Dispatch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obituaries.)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2AF-AF50-41C3-8E06-9A78F0E29073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 popular Soul Singer, Mary J. Blige, will perform in Richmon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A popular soul singer, Mary J. Blige, will perform in Richmon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pressure is building on president Bus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Wrong. The pressure is building on President Bus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AAE7-7B20-4BA1-8B95-99DB76648EE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olice Officer Jessica Jean Cheney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 police officer, Jessica Jean Cheney,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Jessica Jean Cheney, a police officer, died Saturday night in a traffic acciden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orrect. These are three ways of handling titles. Capitalize only if it’s a formal title ‘fused’ to the person’s name (sentence No. 1)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DC1D-0EC4-4F26-9321-C6C7E435F29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Organizatio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an organization’s nam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ecause it’s a proper nou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ut don’t capitalize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, an, th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d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prepositions of fewer than 5 letter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05F3-06F0-4DCB-BB79-FB7E77C0FD6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Organization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oy Scout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reater Richmond Chamber of Commerc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elta Chi Fraternity (becaus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‘Fraternity’ is part of the nam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Phi Mu sorority (because ‘sorority’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sn’t officially part of the name)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VCU Board of Visito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ederal Communication Commiss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F2D1-41A6-42E4-9C3C-BDD715D6D6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mnesty International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Black Awakening Choi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merican Society Of Interior Designers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American Society of Interior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ctivities Programming board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Activities Programming Board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489E-587D-43B1-A27C-873E1159F30C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(nations/Nations) formed an allianc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nations formed an allianc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nce lived in (deltaville/Deltaville)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nce lived in Deltaville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e of the (johns/Johns) arrested in the prostitution sting said his name was (john/John) Smi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One of the johns arrested in the prostitution sting said his name was John Smit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0744-73D0-4C1D-BADC-9787BDFAB4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Federal Bureau Of Investig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Federal Bureau of Investig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atino Student Alliance 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onkey And Elephant Socie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Donkey and Elephant Society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VCU Student Government Association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C2B2-989C-4814-85E0-F81F8087B78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U.S. military branch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when written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n full or shortened form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Air For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ir Force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Ar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Arm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U.S. Mari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Marin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14BF-E826-4231-B536-DB8F9B68E40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U.S. military branche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when these words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don’t mean military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An army of ants took over the picnic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Like an air force bent on destruction, the birds swooped over the crowd and dropped their bomb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3158-A3C5-4B44-B60B-D948829A613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olitical term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apitalize ‘party’ when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it is part of a proper noun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Democratic Part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Republican Party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ce9964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 Green and Libertarian parties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is a Democrat and a loyal member of the party. He is a longtime Republican senator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7D0B-A4A9-47FC-A08D-7346FC258BA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Political term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Lowercase a political term when it refers to a form of government or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n ideology (not a political party)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believed in the republican form of government, with elected representativ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opposes socialism, but she used to belong to the Socialist Party of America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2D2F-D59C-4398-AF34-D5B63F6CA99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democratic governor appointed a Republican to the Supreme Cour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The Democratic governor appointed a Republican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joined the Navy at age 19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He spent his life fighting Communism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Lowercase ‘communism.’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3D71-4B1D-45CC-B36A-BF8C4D247D6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Green party is collecting signature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The Green Party …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untry was founded in 1776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on Democratic ideal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Wrong. Lowercase ‘democratic’ ideal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ragged army of refugees fled from the drought-striken region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rrec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97A7-1709-4BC3-9627-96DD8A26BF1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rademark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y’re specific, so capitalize them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tudents will get free Cokes at clas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A Realtor sold the house in two days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The concert is being sponsored by Sprite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She wore an Armani suit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heck the AP Stylebook and </a:t>
            </a:r>
            <a:r>
              <a:rPr b="0" lang="en-US" sz="3200" spc="-1" strike="noStrike" u="sng">
                <a:solidFill>
                  <a:srgbClr val="9a7f32"/>
                </a:solidFill>
                <a:uFillTx/>
                <a:latin typeface="Tahoma"/>
                <a:hlinkClick r:id="rId1"/>
              </a:rPr>
              <a:t>gov’t. offices</a:t>
            </a: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 to see if a brand name is still protected.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248F-1E90-46BC-AA21-45DA70C7C76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(kleenex/Kleenex)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Kleenex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(xerox/Xerox)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Xerox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had (jello/Jell-O) for desser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They had Jell-O for dessert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ABED-D1A1-4460-9127-E631F267D69D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Trademarks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Unless the trademark name is essential to the story, use the generic word: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cola instead of Coke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real estate agent instead of Realtor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ahoma"/>
              </a:rPr>
              <a:t>gelatin instead of Jell-O</a:t>
            </a:r>
            <a:endParaRPr b="0" lang="en-US" sz="32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Slide Number Placeholder 5"/>
          <p:cNvSpPr/>
          <p:nvPr/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8F3F-B749-4B13-8314-9D6713E734D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ahoma"/>
              </a:rPr>
              <a:t>Now you try!</a:t>
            </a:r>
            <a:endParaRPr b="0" lang="en-US" sz="44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Kleenex, she tearfully recalled what happened on the beach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Clenching a tissue, she tearfully recalled what happened on the beach. 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Xerox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He made a photocopy of the document to prove it existed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as wearing Nikes and Ray-Ban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ahoma"/>
              </a:rPr>
              <a:t>She was wearing running shoes and sunglasses.</a:t>
            </a: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2:47:03Z</dcterms:created>
  <dc:creator>Jeff C. South</dc:creator>
  <dc:description/>
  <dc:language>en-US</dc:language>
  <cp:lastModifiedBy>Nadia Williams</cp:lastModifiedBy>
  <dcterms:modified xsi:type="dcterms:W3CDTF">2014-02-27T15:18:34Z</dcterms:modified>
  <cp:revision>76</cp:revision>
  <dc:subject/>
  <dc:title>Punctuation Ti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